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727B-F222-481C-A273-D072EC1B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6C97-47C9-4CD1-8720-0B2CAC70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979C-384A-4F42-99BB-E8E75949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59E1-F86A-4E2E-BF19-F5909C60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FC3-30F4-468F-88FB-E692EEFD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4AB6-60B3-4BB3-9CC1-1A6B89E5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472B-EA62-4C67-9720-3E1ACF9C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D232-6507-492C-AF94-29DB05A8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A1C-BD99-4F80-B9E1-4127AF53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C37-EFB8-4BDB-964D-0D96A69F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7EDA-B5B8-4A55-B5F0-14D58519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3B5E-E0D7-425C-8A84-46EE7296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E97E-B5B5-47DB-8382-9FBC0C686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rch.cam.ac.uk/~dir21/gallery/circus_of_the_streets_big_top.png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228600" y="228600"/>
            <a:ext cx="8610480" cy="6445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Edwardian Script ITC"/>
              </a:rPr>
              <a:t>La Complainte du Phoque en Alask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dwardian Script ITC"/>
              </a:rPr>
              <a:t>Michel Riv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dwardian Script ITC"/>
              </a:rPr>
              <a:t>By La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759880" cy="66596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Edwardian Script ITC"/>
              </a:rPr>
              <a:t>Il est temps que Pierre oubliais Sophie et devenais positive pour le futur</a:t>
            </a:r>
            <a:r>
              <a:rPr b="0" lang="en-US" sz="5400" spc="-1" strike="noStrike">
                <a:solidFill>
                  <a:srgbClr val="ffffff"/>
                </a:solidFill>
                <a:latin typeface="Edwardian Script ITC"/>
              </a:rPr>
              <a:t>.</a:t>
            </a:r>
            <a:br>
              <a:rPr sz="40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 vaut pas la pe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 laisser ceux qu’on sim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ur sller faire tou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 ballons sur son n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 fait rire les enf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 fait pur rire perso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and les enfants sont gran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52000"/>
          </a:blip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Chiller"/>
              </a:rPr>
              <a:t>Pier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bit:  Ala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timent Current:  Tres Tri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qu’part en Alaska, y’a un phoque qui s’ennuie en maudit.  Sa blonde est parti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362480" cy="30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52280"/>
            <a:ext cx="8763120" cy="6553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Chick"/>
              </a:rPr>
              <a:t>Sophi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Location:  Chic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entiment:  Euphoriq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“…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Gagner sa l’ie dans un cirque aux Etas-Uni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572000" y="2057400"/>
            <a:ext cx="4191120" cy="31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hick"/>
              </a:rPr>
              <a:t>Elle est blonde, comme Marylin Monr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40524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Gran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ble-t-il que Sophie soitmoins en amour que Pier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c’est vra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yez-vous que cet relation ne soit pas s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00680" cy="296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105520" y="2895480"/>
            <a:ext cx="2286000" cy="99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610840" cy="6645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at"/>
              </a:rPr>
              <a:t>Un Solution!  Possible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6232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reve a Chicago, a Marylin Monroe, Y voudrait voir sa blonde faire un show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ant que Pierre puisse oublier la belle sienne amour, il est essentiel que il voie Sophie dans le cirqu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 est tres important, parce que si il pense que cette fille pour toujours, il va un perte de la v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Baby Kruffy"/>
              </a:rPr>
              <a:t>Voila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Baby Kruff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aby Kruffy"/>
              </a:rPr>
              <a:t>Il va gagn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Baby Kruff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aby Kruffy"/>
              </a:rPr>
              <a:t>Et prendre un auto-bu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3624120" cy="2968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648320" y="373392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roadway"/>
              </a:rPr>
              <a:t>Si il visitais la blonde, il peut-etre que elle retourne les sentiments d’affec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roadway"/>
              </a:rPr>
              <a:t>Ou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roadway"/>
              </a:rPr>
              <a:t>Elle searche pour une nouvelle vie sans Pierre, sa copin necessiteus parce que elle n’amoure pas le garc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4416480" cy="3136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0086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uvre Pierre… mais, c’est la vi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s y ont les autres poisson a la m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… les autres phoq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4114800" cy="2741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1744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00:28:48Z</dcterms:created>
  <dc:creator>HP Authorized Customer</dc:creator>
  <dc:description/>
  <dc:language>en-US</dc:language>
  <cp:lastModifiedBy>Toni Theisen</cp:lastModifiedBy>
  <dcterms:modified xsi:type="dcterms:W3CDTF">2007-02-10T16:38:22Z</dcterms:modified>
  <cp:revision>4</cp:revision>
  <dc:subject/>
  <dc:title>La Complainte du Phoque en Alaska</dc:title>
</cp:coreProperties>
</file>